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3215-E288-4CFE-A5A6-E8A6A9DF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DB1D-29FD-4436-918C-4FEB84EC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8AC8-5EB4-4367-9F4E-C368BF48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7D6E-8984-43BE-8EA0-774104A5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192-675B-4416-8806-4F1404BB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5DA6-5A61-43A7-9FEC-401C57A8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939B-91DE-445F-B178-40CDC88E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11A-B442-45E9-91F3-A2451352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127-6D73-4143-AFE7-D25A317C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EFD-6D51-440A-99AA-9B9E68DB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7630-4239-459E-819C-3AF21251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EEC-D806-4286-9FAF-CAC0E4D4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80382-4CA2-4AB8-BEAD-C87E7A520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2360" y="263700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أعم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293760" y="907920"/>
            <a:ext cx="8601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179280" y="1473120"/>
            <a:ext cx="87138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45086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يد ذلك . لأنهم سوف يعاقبون على ذلك يوم القيامة في نار جهن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297080" y="907920"/>
            <a:ext cx="769464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08000" y="2276640"/>
            <a:ext cx="88376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755640" y="3429000"/>
            <a:ext cx="8190000" cy="10573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2924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ببوا في إضلال قومهم وهلاك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رسال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1042920" y="5073480"/>
            <a:ext cx="7850160" cy="101952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61675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لأن كل إنسان يستطيع معرفة صدق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68"/>
          <a:stretch/>
        </p:blipFill>
        <p:spPr>
          <a:xfrm>
            <a:off x="290520" y="1628640"/>
            <a:ext cx="86025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06560" y="4797360"/>
            <a:ext cx="3530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738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حال الكفار سرد هنا سبب هذه الح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348000" y="993600"/>
            <a:ext cx="5600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79280" y="1503360"/>
            <a:ext cx="87868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395280" y="2314440"/>
            <a:ext cx="8524800" cy="421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919080"/>
            <a:ext cx="8869320" cy="11811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12136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هلا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ك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481960" y="1725480"/>
            <a:ext cx="287280" cy="263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أعظم النعم إرسال الرسل عليهم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هداية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89000" y="204300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ظم الناس كفراً وعناداً 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ض الكبراء والسادة الذين تسببوا في إضلال قومهم وهلاك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773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بح التقليد الأعمى يؤدي إ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ى و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3908520"/>
            <a:ext cx="8666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رفة صدق الرسول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طيعه كل 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3321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قليد في مسائل الاعتق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حرم إلا بعالم موث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845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ما عليه أهل الكفر من سطوة وسلط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يجو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5059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عدم الاغترار بما عليه أهل الكفر من سطوة وسلطا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ذلك زائ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6358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بل الله من العم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ا ما كان خالصاً لوجهه صواباً على سنة نبي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6146640"/>
            <a:ext cx="86662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ا يقبل من العمل إلا ما كان خالصاً لوجهه صواباً على سنة نبيه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: لأن الله تعالى أغنى الشركاء عن الشر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04840" y="2276640"/>
            <a:ext cx="864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سبب في إضلال الن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شراك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192240" y="981000"/>
            <a:ext cx="8653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53:50Z</dcterms:modified>
  <cp:revision>1847</cp:revision>
  <dc:subject/>
  <dc:title>عرض تقديمي في PowerPoint</dc:title>
</cp:coreProperties>
</file>